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EFB-9DB2-4F1D-8E72-B5DA2C7E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AD6-C334-49E1-8253-BFFAA6EE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A7F-40D2-47E0-92EC-9ACC540C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F43-425B-4E53-975D-C655ED6A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E52-FE08-41EE-8F39-71EC3458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DDF-A7D6-4163-97FA-80BF9ED7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6A1-A79C-4634-8428-42215F12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6EA-A517-4C63-BC66-AB1D2B35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419-BA3E-4FA2-BC35-12F0B64E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88C-1490-4481-995E-FE6CC5CE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7E2-673A-4364-9946-0C55581F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6F2-569A-477B-8C28-D18AC35E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9384-6116-4B1D-B668-620CC3FFCA9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4005360"/>
            <a:ext cx="42847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ربي جسد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3527280"/>
            <a:ext cx="7345440" cy="29768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2412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الأغصانِ اثبَتوا ف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أتوا بثِمارٍ جمّ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3624120"/>
            <a:ext cx="7129800" cy="59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َ الرَّبُ أَنَا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ُمْ أَغْصَانُ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1989000"/>
            <a:ext cx="46432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َ الهائِم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صحر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بحَثُ ع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طَراتِ الماء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642600" y="0"/>
            <a:ext cx="63604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لهَف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بي إليك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هِداية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رج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5796000" y="1125360"/>
            <a:ext cx="295272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عطيني أول قرب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روحي لعطفك جوع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هيدا عيدي وأنا اليوم</a:t>
            </a: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بلشت بعمري التاني</a:t>
            </a: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8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5-11T17:59:43Z</dcterms:modified>
  <cp:revision>17</cp:revision>
  <dc:subject/>
  <dc:title>PowerPoint Presentation</dc:title>
</cp:coreProperties>
</file>